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691813" cy="7559675"/>
  <p:notesSz cx="6670675" cy="9896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6AF-5868-45A0-A746-F0CFCD55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F53-E8CD-4BB4-8044-28410AA4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690B-447F-4CFC-8BC0-A8738A86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580-A6FB-42E4-86D8-7CDF19FA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2396-E86F-46C1-9F18-B463A426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C53-5115-45B8-8046-5F215240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11B-F82C-4BEF-9527-1F11C903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11E-C182-446E-A1F3-3F009656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C259-47EB-4EF9-8348-7B0C2A77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8EBA-710A-4299-8DA9-341421C9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BCB2-A23D-4CDD-9AE5-5370DF83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97D-8B09-45A6-BB9E-D798D15C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9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D93BFEB6-0DFB-4215-BFA9-592D20AF0ECB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3280" y="2052720"/>
            <a:ext cx="10009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ba trvání projektu: 09/2009 – 08/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ování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ropský sociální fond v ČR a státní rozpočet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e proškole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120 ž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řádáme: semináře, odborné konzultace, worksh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kupi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 - ženy se záměrem podnik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2 - začínající podnikatelky první 3 roky podnik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3 - začínající podnikatelky: oblast služeb péče o děti do 15 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artner projek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avská asociace podnikatelek a manažerek, o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gionální klub B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5908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57880" y="303120"/>
            <a:ext cx="1776240" cy="126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78000" y="1405080"/>
            <a:ext cx="4248000" cy="1749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418000" y="3060720"/>
            <a:ext cx="4969080" cy="199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06360" y="4807080"/>
            <a:ext cx="4464000" cy="170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62720" y="1981080"/>
            <a:ext cx="397800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1- zapojeno 168 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2360" y="3852720"/>
            <a:ext cx="44085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2- zapojeno 79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5869080"/>
            <a:ext cx="491328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3- zapojeno 19 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47508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3280" y="2052720"/>
            <a:ext cx="10009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Nabídka pro klien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– cykly seminář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adenská činn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stupní konzul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é konzultace ( účetní, daňové, marketing, reklama, PR, stres a časový management, koučink, ochrana loga, moderní technologie, web-stránky,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é právní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tkání s podnikatelkami – business kluby, kulatý stůl – předávání zkuše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8600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23555" r="0" b="37688"/>
          <a:stretch/>
        </p:blipFill>
        <p:spPr>
          <a:xfrm>
            <a:off x="233280" y="1981080"/>
            <a:ext cx="10082160" cy="5256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402000" y="6877080"/>
            <a:ext cx="446400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Těšíme se na shledanou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na dalším ze seminářů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podnikanizen@rhkbrno.cz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www.rhkbrno.cz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70000" y="29718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dnikanizen@rhkbrno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ww.rhkbrno.c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75080" y="6732720"/>
            <a:ext cx="446400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3:15:21Z</dcterms:created>
  <dc:creator>Věra</dc:creator>
  <dc:description/>
  <dc:language>en-US</dc:language>
  <cp:lastModifiedBy>-</cp:lastModifiedBy>
  <dcterms:modified xsi:type="dcterms:W3CDTF">2011-06-15T08:24:43Z</dcterms:modified>
  <cp:revision>67</cp:revision>
  <dc:subject/>
  <dc:title>První kroky pro vstup do podnikání Ing. Dagmar Jelínková ECONOMY RATING</dc:title>
</cp:coreProperties>
</file>